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FF4-E034-4922-BD6B-7994D142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578-74F3-4B15-B9A8-F635D003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9D2-52B8-406E-93B1-A03694A0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1EE-2647-459A-9C44-5BC0A89C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F8BD-E193-4CD4-B35D-B8504B95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69E-5C63-4491-9194-C19A582A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CDC-BBDD-436B-B737-DB56AFF1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15E-84ED-4547-8E3D-D1F0B3FE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986-34F3-4522-B9C3-DA7A5B9A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FA3-7952-46EE-98F9-C653A56C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DD9-8F47-451D-A08A-305C35FE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B79-4192-4332-B180-141F50D8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7414-04AD-476F-9572-5A674EFEC49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BDCA-1421-4545-87B6-49E0718BFA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1863720" y="700200"/>
            <a:ext cx="75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登录网址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210.36.99.187/business/login.do?actionType=logino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1"/>
          <a:stretch/>
        </p:blipFill>
        <p:spPr>
          <a:xfrm>
            <a:off x="620640" y="1219320"/>
            <a:ext cx="10468080" cy="563868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0" y="6984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系统登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0" y="1031760"/>
            <a:ext cx="12192120" cy="38260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"/>
          <p:cNvPicPr/>
          <p:nvPr/>
        </p:nvPicPr>
        <p:blipFill>
          <a:blip r:embed="rId2"/>
          <a:stretch/>
        </p:blipFill>
        <p:spPr>
          <a:xfrm>
            <a:off x="0" y="4710240"/>
            <a:ext cx="12192120" cy="15588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4"/>
          <p:cNvSpPr/>
          <p:nvPr/>
        </p:nvSpPr>
        <p:spPr>
          <a:xfrm>
            <a:off x="0" y="577800"/>
            <a:ext cx="109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科研秘书导入信息后，科技处进行审核，通过后即可登录。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账号密码均为职工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请登录后自行修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1"/>
          <a:stretch/>
        </p:blipFill>
        <p:spPr>
          <a:xfrm>
            <a:off x="117360" y="2232000"/>
            <a:ext cx="12142800" cy="23814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" descr=""/>
          <p:cNvPicPr/>
          <p:nvPr/>
        </p:nvPicPr>
        <p:blipFill>
          <a:blip r:embed="rId2"/>
          <a:stretch/>
        </p:blipFill>
        <p:spPr>
          <a:xfrm>
            <a:off x="309600" y="4613400"/>
            <a:ext cx="11572920" cy="204768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4"/>
          <p:cNvSpPr/>
          <p:nvPr/>
        </p:nvSpPr>
        <p:spPr>
          <a:xfrm>
            <a:off x="0" y="6984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形式审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1571760" y="1585800"/>
            <a:ext cx="104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由二级单位、部门科研秘书对所属部门申请书进行形式审查，确认无误后点击审核通过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1"/>
          <a:stretch/>
        </p:blipFill>
        <p:spPr>
          <a:xfrm>
            <a:off x="1042920" y="603360"/>
            <a:ext cx="982980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" descr=""/>
          <p:cNvPicPr/>
          <p:nvPr/>
        </p:nvPicPr>
        <p:blipFill>
          <a:blip r:embed="rId2"/>
          <a:stretch/>
        </p:blipFill>
        <p:spPr>
          <a:xfrm>
            <a:off x="628560" y="3957480"/>
            <a:ext cx="115635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984240" y="1604880"/>
            <a:ext cx="9791640" cy="27720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2"/>
          <p:cNvSpPr/>
          <p:nvPr/>
        </p:nvSpPr>
        <p:spPr>
          <a:xfrm>
            <a:off x="0" y="6984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2095560" y="1071720"/>
            <a:ext cx="6278400" cy="347652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4"/>
          <p:cNvSpPr/>
          <p:nvPr/>
        </p:nvSpPr>
        <p:spPr>
          <a:xfrm>
            <a:off x="3678120" y="703440"/>
            <a:ext cx="46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填写相关信息，上传课题申请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2" descr=""/>
          <p:cNvPicPr/>
          <p:nvPr/>
        </p:nvPicPr>
        <p:blipFill>
          <a:blip r:embed="rId2"/>
          <a:stretch/>
        </p:blipFill>
        <p:spPr>
          <a:xfrm>
            <a:off x="2095560" y="4548240"/>
            <a:ext cx="62784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1819440" y="1076400"/>
            <a:ext cx="85532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1219320" y="1771560"/>
            <a:ext cx="9753480" cy="331488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4"/>
          <p:cNvSpPr/>
          <p:nvPr/>
        </p:nvSpPr>
        <p:spPr>
          <a:xfrm>
            <a:off x="3695760" y="1204920"/>
            <a:ext cx="46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申报信息在科研秘书审核后无法修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4"/>
          <p:cNvSpPr/>
          <p:nvPr/>
        </p:nvSpPr>
        <p:spPr>
          <a:xfrm>
            <a:off x="3772080" y="1582560"/>
            <a:ext cx="57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申报经评审后如获立项，需完善项目信息后方正式立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5" descr=""/>
          <p:cNvPicPr/>
          <p:nvPr/>
        </p:nvPicPr>
        <p:blipFill>
          <a:blip r:embed="rId1"/>
          <a:stretch/>
        </p:blipFill>
        <p:spPr>
          <a:xfrm>
            <a:off x="1122480" y="2343240"/>
            <a:ext cx="99486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4" descr=""/>
          <p:cNvPicPr/>
          <p:nvPr/>
        </p:nvPicPr>
        <p:blipFill>
          <a:blip r:embed="rId1"/>
          <a:stretch/>
        </p:blipFill>
        <p:spPr>
          <a:xfrm>
            <a:off x="2065320" y="1838160"/>
            <a:ext cx="6926400" cy="385128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6"/>
          <p:cNvSpPr/>
          <p:nvPr/>
        </p:nvSpPr>
        <p:spPr>
          <a:xfrm>
            <a:off x="2004840" y="1216080"/>
            <a:ext cx="69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点击“我的项目”，进入项目页面，点击编辑，完善项目信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2000160" y="390600"/>
            <a:ext cx="7759800" cy="29908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"/>
          <p:cNvPicPr/>
          <p:nvPr/>
        </p:nvPicPr>
        <p:blipFill>
          <a:blip r:embed="rId2"/>
          <a:stretch/>
        </p:blipFill>
        <p:spPr>
          <a:xfrm>
            <a:off x="2000160" y="3586320"/>
            <a:ext cx="7953480" cy="2606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3"/>
          <p:cNvSpPr/>
          <p:nvPr/>
        </p:nvSpPr>
        <p:spPr>
          <a:xfrm>
            <a:off x="0" y="6984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科研秘书身份切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196920" y="3013200"/>
            <a:ext cx="75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科研秘书可通过角色按钮切换身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"/>
          <p:cNvPicPr/>
          <p:nvPr/>
        </p:nvPicPr>
        <p:blipFill>
          <a:blip r:embed="rId1"/>
          <a:stretch/>
        </p:blipFill>
        <p:spPr>
          <a:xfrm>
            <a:off x="0" y="969840"/>
            <a:ext cx="12136320" cy="351648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4"/>
          <p:cNvSpPr/>
          <p:nvPr/>
        </p:nvSpPr>
        <p:spPr>
          <a:xfrm>
            <a:off x="0" y="6984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员信息批量导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2T09:05:00Z</dcterms:created>
  <dc:creator>Administrator</dc:creator>
  <dc:description/>
  <dc:language>en-US</dc:language>
  <cp:lastModifiedBy>ㄟ(▔，▔)ㄏ</cp:lastModifiedBy>
  <dcterms:modified xsi:type="dcterms:W3CDTF">2020-06-30T07:44:2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